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537F-EEE0-4841-816B-2520AFEBB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ABE8-A5DE-4709-85C7-9EC05036E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4FD7-9C02-4FB3-A948-8438DBFD3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A6AE-CD0F-4FAB-9DD5-2E6744C07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6889-7EB2-4100-96DB-44A71EAAF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823E-1C98-4DBD-B843-62F6B9170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0B64-6DF5-4027-A723-6D8747E71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D394-CF11-4B91-87C6-1BD01A9B5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49DB-414C-47E7-819F-EED1B57BD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8440-249B-426A-9652-554C3C2E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C84E-472E-458A-B54D-29DC62239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6BE3-2081-489A-9CDD-BD09A371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5ECFF-D64D-435E-8B3A-9CBEBAC46AD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-303120" y="1557360"/>
            <a:ext cx="9905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TIRLING  EX  PRESIDENTS                        EX  PRESIDENTS                           EX  PRESIDENTS  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8"/>
          <p:cNvSpPr/>
          <p:nvPr/>
        </p:nvSpPr>
        <p:spPr>
          <a:xfrm>
            <a:off x="0" y="314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4"/>
          <p:cNvSpPr/>
          <p:nvPr/>
        </p:nvSpPr>
        <p:spPr>
          <a:xfrm>
            <a:off x="0" y="479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Box 33"/>
          <p:cNvSpPr/>
          <p:nvPr/>
        </p:nvSpPr>
        <p:spPr>
          <a:xfrm>
            <a:off x="3728880" y="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9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5" descr="Stirling Ex Presidents 2.jpg"/>
          <p:cNvPicPr/>
          <p:nvPr/>
        </p:nvPicPr>
        <p:blipFill>
          <a:blip r:embed="rId1"/>
          <a:stretch/>
        </p:blipFill>
        <p:spPr>
          <a:xfrm>
            <a:off x="272880" y="333360"/>
            <a:ext cx="1157400" cy="1266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6" descr="Stirling Ex Presidents 3.JPG"/>
          <p:cNvPicPr/>
          <p:nvPr/>
        </p:nvPicPr>
        <p:blipFill>
          <a:blip r:embed="rId2"/>
          <a:stretch/>
        </p:blipFill>
        <p:spPr>
          <a:xfrm>
            <a:off x="2000160" y="549360"/>
            <a:ext cx="1041480" cy="1046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7" descr="Stirling Ex Pressidents 50th.JPG"/>
          <p:cNvPicPr/>
          <p:nvPr/>
        </p:nvPicPr>
        <p:blipFill>
          <a:blip r:embed="rId3"/>
          <a:stretch/>
        </p:blipFill>
        <p:spPr>
          <a:xfrm>
            <a:off x="3513240" y="333360"/>
            <a:ext cx="1225440" cy="12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3T08:29:43Z</dcterms:created>
  <dc:creator>HP authorized customer</dc:creator>
  <dc:description/>
  <dc:language>en-US</dc:language>
  <cp:lastModifiedBy>John</cp:lastModifiedBy>
  <dcterms:modified xsi:type="dcterms:W3CDTF">2011-12-23T11:10:24Z</dcterms:modified>
  <cp:revision>30</cp:revision>
  <dc:subject/>
  <dc:title>PowerPoint Presentation</dc:title>
</cp:coreProperties>
</file>